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EB2F-5255-4CC5-BD6E-B6AC227AC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C76E-753F-4981-85F8-99CF2781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3F34-C2CA-4B67-91AB-8F40F3D78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C83C-C402-4C01-A817-EEBD6B0DE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AFDC-D90C-4C31-BA5F-74C5486B5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9A11-7A5F-4B16-95DF-74E357DB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6135-BE00-4168-A23A-67378A50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9F33-0AC6-4698-A47E-EB23F6EC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FA18-CFA5-4415-A0E1-F37BAEBC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EC54-6700-4ABE-8FA8-C6E8F92E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3B7A-44C0-4735-8B3C-629C298E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A652-C703-475B-99A2-90C0D58B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3EEA-54BA-43F4-9A12-AC5A79A6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6770-4CB1-4489-B30E-5BD40944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33D8-09CC-4FD9-9BC2-F6B38084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5A5F-C4C1-49A8-B82E-705841996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6DB4-DDD6-4315-B12C-54B4797DA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F0EA-35D3-4F9B-AE1D-F981807D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39E4-3416-4C87-97F3-981D98BD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1797-7E6F-40A6-887C-C0B806F3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2CCD-75D4-46C8-BFBD-C9C19837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72AD-C4F7-40CC-8246-9D343D1B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4EA4-766F-49F7-8E8C-D18B11E7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9809-B509-4AC8-8623-E602D82A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F7C9-93FF-4813-98D8-F037EAA34A2F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1814-D324-4A02-A8C3-C36F9B82A9D0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Making Connections Beyond the Classroom: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00400" y="3809880"/>
            <a:ext cx="5410080" cy="198144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chnology Integration in the Language Arts Classroo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ara Goodrich and Mary Hal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0880" y="609480"/>
            <a:ext cx="8077320" cy="37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It has taught me ways to interact in a more academic manner”(Dennis G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It keeps me interested in what we are studying.  I pay more attention and put thought into my writing” (Jose F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w do you feel Moodle could help you beyond the classroom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make me a better person to work with in a group” (Graham F.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make me be able to take criticism and learn from it” (Tajh R.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048120"/>
            <a:ext cx="7696080" cy="83808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t has taught me how to communicate effectively with people in other areas” (David G.)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“I think this tool will help me in the business world.  Not all communication is done face to face” (RaeAnn E.)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Examples of Student Response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90662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45720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Resources--Collaboration on the Web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ww.globalschoolnet.org/index.cf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ww.takingitglobal.or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ww.epals.c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ww.think.com/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onnecting Two Classrooms from Separate District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tablished a partnership with Warwick High Schoo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tilized Moodle (a course management system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amed two English II classrooms with students of a similar ability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inding a Collaborative Partner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fter discussing with my CFF Coach, I knew what I wanted out of my unit.  My CFF Coach posted my goal on a List Serv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a few days, my request was answered and initial communication took place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Unit Design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itially, we utilized a conference call to discuss expectations and desires for the uni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utilized email for follow up discussion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posted our essential questions in Moodle.  We both had access to the courses and could make additions and corrections as necessar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signed essential questions regarding the unit of stud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0880" y="1897200"/>
            <a:ext cx="822960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stablished forum requirements to which each student must adhe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52280" y="1989000"/>
            <a:ext cx="883944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hat the students are saying…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at do you like most about using Moodl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can communicate with other students at others schools, educationally” (Danielle M.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8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like how you can interact with people from other schools. I like how you can give your opinion on certain topics and how you get feedback on what you write” (Kathy D.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8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4920" y="2819520"/>
            <a:ext cx="844524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It (Moodle) can help me form ideas about complicated things that I’m reading” (Khelsea B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I like that you get to meet new people and see how different and the same they are to you” (Jessie D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w has Moodle helped to strengthen your English skill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has helped me to understand what we’re learning more by reading and replying to other people’s responses” (Sarah H.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has helped me to read more closely.  It has also helped my writing skills” (Matt E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5:02:04Z</dcterms:created>
  <dc:creator>cysd cysd</dc:creator>
  <dc:description/>
  <dc:language>en-US</dc:language>
  <cp:lastModifiedBy>cysd cysd</cp:lastModifiedBy>
  <cp:lastPrinted>2007-05-14T22:44:24Z</cp:lastPrinted>
  <dcterms:modified xsi:type="dcterms:W3CDTF">2008-01-29T02:03:15Z</dcterms:modified>
  <cp:revision>9</cp:revision>
  <dc:subject/>
  <dc:title>Making Connections Beyond the Classroom:</dc:title>
</cp:coreProperties>
</file>